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ct" ContentType="image/x-pict"/>
  <Override PartName="/ppt/media/image26.png" ContentType="image/png"/>
  <Override PartName="/ppt/media/image27.png" ContentType="image/png"/>
  <Override PartName="/ppt/media/image4.png" ContentType="image/png"/>
  <Override PartName="/ppt/media/image3.png" ContentType="image/png"/>
  <Override PartName="/ppt/media/image30.pct" ContentType="image/x-pict"/>
  <Override PartName="/ppt/media/image28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3.jpeg" ContentType="image/jpeg"/>
  <Override PartName="/ppt/media/image12.png" ContentType="image/png"/>
  <Override PartName="/ppt/media/image20.jpeg" ContentType="image/jpeg"/>
  <Override PartName="/ppt/media/image19.png" ContentType="image/png"/>
  <Override PartName="/ppt/media/image21.jpeg" ContentType="image/jpeg"/>
  <Override PartName="/ppt/media/image22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0339C-2875-479A-AACC-34F0F622E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8524-B00A-4A70-BFE3-F87A6FD1D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8061-80E3-48DD-9962-110AA0B4B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23B5-361B-4A2F-895A-494EA8FA5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5224-07B6-47D7-9619-D09664739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4802-A785-4946-A3ED-AB3D23BDC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5A73-84E9-4A7C-9513-36EB4FBDF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7DFF-112B-4FBD-BFC7-42D414F78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6000-2D26-487B-B396-110069ADE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BC2A-1C1A-46DB-A90F-8D10A9712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7A71-3F60-45CF-A9D1-E7805ED8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A210-DAAA-4D87-87A0-B253324C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F7CA-3750-4824-9668-089914952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E2B7E-7C2B-4373-B975-3F86B6AD8E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ct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0.pct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ct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0.pct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jpeg"/><Relationship Id="rId20" Type="http://schemas.openxmlformats.org/officeDocument/2006/relationships/image" Target="../media/image21.jpeg"/><Relationship Id="rId21" Type="http://schemas.openxmlformats.org/officeDocument/2006/relationships/image" Target="../media/image22.png"/><Relationship Id="rId2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5587920"/>
            <a:ext cx="9144000" cy="12700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ational Center for Biomedical Ont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ford – Berkeley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o – Victoria – Buffal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CSF – Oregon – Cam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bioontology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6696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nded in September 2005 to provide a national focus on the use of ontologies in the biomedical sc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nsortium that brings together investigators 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ford University (Ontology-management technolog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wrence Berkeley Labs (Use of ontologies for data annot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of Victoria (Ontology and data visualiz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o Clinic (Access to controlled clinical terminolog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NY Buffalo (Best practices for ontology develop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goal: Industrial-strength technology for use of ontologies in e-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85800" y="641520"/>
            <a:ext cx="777240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17440" y="1716120"/>
            <a:ext cx="2895840" cy="18288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Open Biomedical Ont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(OB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130720" y="1716120"/>
            <a:ext cx="2895840" cy="18288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Open Biomedical Data (OB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59000" y="3881520"/>
            <a:ext cx="2820960" cy="18288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BioPor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04280" y="1012680"/>
            <a:ext cx="473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apture and index experimental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39625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Revise biomedical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understa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05720" y="4038480"/>
            <a:ext cx="198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Relate experimental data to results from other 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880" y="0"/>
            <a:ext cx="845604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National Center for Biomedical Ont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105" idx="4"/>
            <a:endCxn id="106" idx="6"/>
          </p:cNvCxnSpPr>
          <p:nvPr/>
        </p:nvCxnSpPr>
        <p:spPr>
          <a:xfrm rot="5400000">
            <a:off x="5667480" y="3884760"/>
            <a:ext cx="1236960" cy="585000"/>
          </a:xfrm>
          <a:prstGeom prst="curvedConnector2">
            <a:avLst/>
          </a:prstGeom>
          <a:ln w="76320">
            <a:solidFill>
              <a:srgbClr val="c0ff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2" name=""/>
          <p:cNvCxnSpPr>
            <a:stCxn id="105" idx="1"/>
            <a:endCxn id="104" idx="7"/>
          </p:cNvCxnSpPr>
          <p:nvPr/>
        </p:nvCxnSpPr>
        <p:spPr>
          <a:xfrm rot="5400000">
            <a:off x="4570560" y="987120"/>
            <a:ext cx="2520" cy="1966320"/>
          </a:xfrm>
          <a:prstGeom prst="curvedConnector5">
            <a:avLst>
              <a:gd name="adj1" fmla="val -30400000"/>
              <a:gd name="adj2" fmla="val 49990"/>
              <a:gd name="adj3" fmla="val -30400000"/>
            </a:avLst>
          </a:prstGeom>
          <a:ln w="76320">
            <a:solidFill>
              <a:srgbClr val="c0ff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3" name=""/>
          <p:cNvCxnSpPr>
            <a:stCxn id="104" idx="4"/>
            <a:endCxn id="106" idx="2"/>
          </p:cNvCxnSpPr>
          <p:nvPr/>
        </p:nvCxnSpPr>
        <p:spPr>
          <a:xfrm flipH="1" rot="16200000">
            <a:off x="2237040" y="3886920"/>
            <a:ext cx="1236960" cy="580320"/>
          </a:xfrm>
          <a:prstGeom prst="curvedConnector2">
            <a:avLst/>
          </a:prstGeom>
          <a:ln w="76320">
            <a:solidFill>
              <a:srgbClr val="c0ff00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137160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-science needs technolo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help build and extend ont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locate ontologies and to relate them to one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visualize relationships and to aid underst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acilitate evaluation and annotation of ont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oals for the National Cente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 Biomedical Ont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d ontology libraries in cyber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-data standards for ontology an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methods for ontology indexing and retrie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-to-use portals for ontology access, annotation, and pe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-user platforms for putting ontologies to use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ann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sion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ural-language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retrie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applications that we have not yet thought of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7772400" cy="1079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1" name=""/>
          <p:cNvGraphicFramePr/>
          <p:nvPr/>
        </p:nvGraphicFramePr>
        <p:xfrm>
          <a:off x="1752480" y="1447920"/>
          <a:ext cx="5334120" cy="5333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1447920"/>
                    <a:ext cx="5334120" cy="53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portunities to collaborate with the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Center’s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ibuting ontologies to the OBO 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 proposal to the NIH for a “collaborating R01” gr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ng a biological driving proje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772400" y="6083280"/>
            <a:ext cx="1371600" cy="7747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54800" y="6248520"/>
            <a:ext cx="377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bioontology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7772400" cy="1079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8" name=""/>
          <p:cNvGraphicFramePr/>
          <p:nvPr/>
        </p:nvGraphicFramePr>
        <p:xfrm>
          <a:off x="1752480" y="1447920"/>
          <a:ext cx="5334120" cy="5333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1447920"/>
                    <a:ext cx="5334120" cy="53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 flipV="1">
            <a:off x="5105520" y="1676160"/>
            <a:ext cx="1523880" cy="152388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952880" y="2514600"/>
            <a:ext cx="533520" cy="53352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3809880" y="1371240"/>
            <a:ext cx="609840" cy="152388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3428640" y="2209320"/>
            <a:ext cx="685800" cy="83844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2133720" y="685440"/>
            <a:ext cx="1828800" cy="251460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2057400" y="1752120"/>
            <a:ext cx="1905120" cy="167652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3505320" y="3733920"/>
            <a:ext cx="38088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1981080" y="2819520"/>
            <a:ext cx="1905120" cy="83808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1981080" y="3733920"/>
            <a:ext cx="1905120" cy="30456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48120" y="4191120"/>
            <a:ext cx="914400" cy="45720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1066680" y="4952880"/>
            <a:ext cx="609840" cy="38124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438280" y="5334120"/>
            <a:ext cx="76320" cy="53316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419360" y="4267080"/>
            <a:ext cx="75960" cy="53352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76920" y="4267080"/>
            <a:ext cx="838080" cy="106704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105520" y="4191120"/>
            <a:ext cx="2286000" cy="68580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181480" y="3809880"/>
            <a:ext cx="914400" cy="15264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5105520" y="3200040"/>
            <a:ext cx="1828800" cy="15228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5181480" y="2437920"/>
            <a:ext cx="2210040" cy="83844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429000" y="5410080"/>
            <a:ext cx="1300320" cy="12016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066680" y="1143000"/>
            <a:ext cx="1235160" cy="617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162920" y="3809880"/>
            <a:ext cx="1981080" cy="11559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2743200" y="868320"/>
            <a:ext cx="1943280" cy="5032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1752480" y="4495680"/>
            <a:ext cx="1292400" cy="8575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>
            <a:off x="6858000" y="2941560"/>
            <a:ext cx="1646280" cy="6397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7"/>
          <a:stretch/>
        </p:blipFill>
        <p:spPr>
          <a:xfrm>
            <a:off x="5181480" y="6172200"/>
            <a:ext cx="1714680" cy="4222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8"/>
          <a:stretch/>
        </p:blipFill>
        <p:spPr>
          <a:xfrm>
            <a:off x="533520" y="2057400"/>
            <a:ext cx="1382760" cy="8002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9"/>
          <a:stretch/>
        </p:blipFill>
        <p:spPr>
          <a:xfrm>
            <a:off x="5867280" y="1219320"/>
            <a:ext cx="1782720" cy="4222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0"/>
          <a:stretch/>
        </p:blipFill>
        <p:spPr>
          <a:xfrm>
            <a:off x="457200" y="3276720"/>
            <a:ext cx="1523880" cy="6159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1"/>
          <a:stretch/>
        </p:blipFill>
        <p:spPr>
          <a:xfrm>
            <a:off x="5410080" y="5410080"/>
            <a:ext cx="3429000" cy="5032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2"/>
          <a:stretch/>
        </p:blipFill>
        <p:spPr>
          <a:xfrm>
            <a:off x="2514600" y="1639800"/>
            <a:ext cx="1143000" cy="7225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3"/>
          <a:stretch/>
        </p:blipFill>
        <p:spPr>
          <a:xfrm>
            <a:off x="3581280" y="4800600"/>
            <a:ext cx="1447920" cy="603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14"/>
          <a:stretch/>
        </p:blipFill>
        <p:spPr>
          <a:xfrm>
            <a:off x="7086600" y="1676520"/>
            <a:ext cx="1771560" cy="9936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15"/>
          <a:stretch/>
        </p:blipFill>
        <p:spPr>
          <a:xfrm>
            <a:off x="5867280" y="3581280"/>
            <a:ext cx="879480" cy="10288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6"/>
          <a:stretch/>
        </p:blipFill>
        <p:spPr>
          <a:xfrm>
            <a:off x="4495680" y="1828800"/>
            <a:ext cx="2286000" cy="663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7"/>
          <a:stretch/>
        </p:blipFill>
        <p:spPr>
          <a:xfrm>
            <a:off x="152280" y="133200"/>
            <a:ext cx="3051360" cy="628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8"/>
          <a:stretch/>
        </p:blipFill>
        <p:spPr>
          <a:xfrm>
            <a:off x="2514600" y="2819520"/>
            <a:ext cx="914400" cy="1143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9"/>
          <a:stretch/>
        </p:blipFill>
        <p:spPr>
          <a:xfrm>
            <a:off x="76320" y="5370480"/>
            <a:ext cx="1981080" cy="496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0"/>
          <a:stretch/>
        </p:blipFill>
        <p:spPr>
          <a:xfrm>
            <a:off x="1447920" y="5892840"/>
            <a:ext cx="1218960" cy="8128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277440" y="-49320"/>
            <a:ext cx="551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ntologies are essential to 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make sense of biomedic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1"/>
          <a:stretch/>
        </p:blipFill>
        <p:spPr>
          <a:xfrm>
            <a:off x="3505320" y="3048120"/>
            <a:ext cx="23619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ist have adopted ontolo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provide canonical representation of scientific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nnotate experimental data to enable interpretation and comparison across datab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facilitate knowledge-based applications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sion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ural language-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143000" y="757080"/>
            <a:ext cx="7315200" cy="572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1284120"/>
            <a:ext cx="9144000" cy="55738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Portion of the OBO Libr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11280" y="893880"/>
            <a:ext cx="792468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nowledge workers seem trapped in a pre-industrial ag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ontologies are of relatively small s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ontologies are built and refined by small groups working arduously in iso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cess rests heavily on the particular talents of individual artisans, rather than on standard operating proced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an urgent need for technologies to make this process “faster, better, cheape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800100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94760" cy="714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1T17:04:53Z</dcterms:created>
  <dc:creator>Mark Musen</dc:creator>
  <dc:description/>
  <dc:language>en-US</dc:language>
  <cp:lastModifiedBy>SMI</cp:lastModifiedBy>
  <dcterms:modified xsi:type="dcterms:W3CDTF">2006-02-13T10:49:32Z</dcterms:modified>
  <cp:revision>55</cp:revision>
  <dc:subject/>
  <dc:title>The End of a Cottage Industry: The coming industrial revolution for biomedical ontologies</dc:title>
</cp:coreProperties>
</file>